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650"/>
              </a:solidFill>
              <a:latin typeface="Hoefler Text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1f5b5a"/>
                </a:solidFill>
                <a:latin typeface="Baskerville"/>
              </a:rPr>
              <a:t>Click to move the slide</a:t>
            </a: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oefler Tex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What thinking</a:t>
            </a:r>
            <a:endParaRPr b="0" lang="en-US" sz="2200" spc="-1" strike="noStrike">
              <a:solidFill>
                <a:srgbClr val="000000"/>
              </a:solidFill>
              <a:latin typeface="Hoefler Text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go to the coke website...classic!</a:t>
            </a:r>
            <a:endParaRPr b="0" lang="en-US" sz="2200" spc="-1" strike="noStrike">
              <a:solidFill>
                <a:srgbClr val="000000"/>
              </a:solidFill>
              <a:latin typeface="Hoefler Tex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oefler Tex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Open Happiness” </a:t>
            </a:r>
            <a:endParaRPr b="0" lang="en-US" sz="2200" spc="-1" strike="noStrike">
              <a:solidFill>
                <a:srgbClr val="000000"/>
              </a:solidFill>
              <a:latin typeface="Hoefler Tex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First three minutes of “Growing up Online” </a:t>
            </a:r>
            <a:endParaRPr b="0" lang="en-US" sz="2200" spc="-1" strike="noStrike">
              <a:solidFill>
                <a:srgbClr val="000000"/>
              </a:solidFill>
              <a:latin typeface="Hoefler Tex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87320" y="1510920"/>
            <a:ext cx="1143000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1f5b5a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87320" y="5308200"/>
            <a:ext cx="11430000" cy="189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9000"/>
          </a:bodyPr>
          <a:p>
            <a:pPr marL="9936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5600" spc="-1" strike="noStrike">
              <a:solidFill>
                <a:srgbClr val="4b4b4b"/>
              </a:solidFill>
              <a:latin typeface="Hoefler Text"/>
            </a:endParaRPr>
          </a:p>
          <a:p>
            <a:pPr lvl="1" marL="99360" indent="-99360" algn="ctr">
              <a:buClr>
                <a:srgbClr val="4b4b4b"/>
              </a:buClr>
              <a:buFont typeface="Hoefler Tex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5600" spc="-1" strike="noStrike">
              <a:solidFill>
                <a:srgbClr val="4b4b4b"/>
              </a:solidFill>
              <a:latin typeface="Hoefler Text"/>
            </a:endParaRPr>
          </a:p>
          <a:p>
            <a:pPr lvl="2" marL="99360" indent="-99360" algn="ctr"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5600" spc="-1" strike="noStrike">
              <a:solidFill>
                <a:srgbClr val="4b4b4b"/>
              </a:solidFill>
              <a:latin typeface="Hoefler Text"/>
            </a:endParaRPr>
          </a:p>
          <a:p>
            <a:pPr lvl="3" marL="99360" indent="-99360" algn="ctr">
              <a:buClr>
                <a:srgbClr val="4b4b4b"/>
              </a:buClr>
              <a:buFont typeface="Hoefler Tex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5600" spc="-1" strike="noStrike">
              <a:solidFill>
                <a:srgbClr val="4b4b4b"/>
              </a:solidFill>
              <a:latin typeface="Hoefler Text"/>
            </a:endParaRPr>
          </a:p>
          <a:p>
            <a:pPr lvl="4" marL="99360" indent="-99360" algn="ctr">
              <a:buClr>
                <a:srgbClr val="4b4b4b"/>
              </a:buClr>
              <a:buFont typeface="Hoefler Tex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5600" spc="-1" strike="noStrike">
              <a:solidFill>
                <a:srgbClr val="4b4b4b"/>
              </a:solidFill>
              <a:latin typeface="Hoefler Text"/>
            </a:endParaRPr>
          </a:p>
          <a:p>
            <a:pPr lvl="5" marL="99360" indent="-99360" algn="ctr">
              <a:buClr>
                <a:srgbClr val="595650"/>
              </a:buClr>
              <a:buFont typeface="Hoefler Tex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5600" spc="-1" strike="noStrike">
              <a:solidFill>
                <a:srgbClr val="4b4b4b"/>
              </a:solidFill>
              <a:latin typeface="Hoefler Text"/>
            </a:endParaRPr>
          </a:p>
          <a:p>
            <a:pPr lvl="6" marL="99360" indent="-99360" algn="ctr">
              <a:buClr>
                <a:srgbClr val="595650"/>
              </a:buClr>
              <a:buFont typeface="Hoefler Tex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5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marL="537120" indent="-5371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marL="907200" indent="-53676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marL="1325160" indent="-5371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3" marL="1742760" indent="-5371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4" marL="2160360" indent="-53676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5" marL="2160360" indent="-53676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6" marL="2160360" indent="-53676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1f5b5a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86960" y="2768400"/>
            <a:ext cx="52707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8000"/>
          </a:bodyPr>
          <a:p>
            <a:pPr marL="388440" indent="-38844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marL="656280" indent="-38844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marL="958320" indent="-38844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3" marL="1260720" indent="-38844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4" marL="1562760" indent="-38844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5" marL="1562760" indent="-38844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6" marL="1562760" indent="-38844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4000"/>
          </a:bodyPr>
          <a:p>
            <a:pPr marL="537120" indent="-5371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marL="907200" indent="-53676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marL="1325160" indent="-5371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3" marL="1742760" indent="-5371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4" marL="2160360" indent="-53676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5" marL="2160360" indent="-53676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6" marL="2160360" indent="-53676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86960" y="2768400"/>
            <a:ext cx="52707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8000"/>
          </a:bodyPr>
          <a:p>
            <a:pPr marL="388440" indent="-38844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marL="656280" indent="-38844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marL="958320" indent="-38844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3" marL="1260720" indent="-38844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4" marL="1562760" indent="-38844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5" marL="1562760" indent="-38844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6" marL="1562760" indent="-38844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86960" y="1981080"/>
            <a:ext cx="5270760" cy="334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1f5b5a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86960" y="5308560"/>
            <a:ext cx="5270760" cy="246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marL="164520" indent="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marL="164520" indent="-164520" algn="ctr">
              <a:spcBef>
                <a:spcPts val="1199"/>
              </a:spcBef>
              <a:buClr>
                <a:srgbClr val="4b4b4b"/>
              </a:buClr>
              <a:buFont typeface="Hoefler Tex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marL="164520" indent="-164520" algn="ctr">
              <a:spcBef>
                <a:spcPts val="1199"/>
              </a:spcBef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3" marL="164520" indent="-164520" algn="ctr">
              <a:spcBef>
                <a:spcPts val="1199"/>
              </a:spcBef>
              <a:buClr>
                <a:srgbClr val="4b4b4b"/>
              </a:buClr>
              <a:buFont typeface="Hoefler Tex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4" marL="164520" indent="-164520" algn="ctr">
              <a:spcBef>
                <a:spcPts val="1199"/>
              </a:spcBef>
              <a:buClr>
                <a:srgbClr val="4b4b4b"/>
              </a:buClr>
              <a:buFont typeface="Hoefler Tex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5" marL="164520" indent="-164520" algn="ctr">
              <a:spcBef>
                <a:spcPts val="1199"/>
              </a:spcBef>
              <a:buClr>
                <a:srgbClr val="595650"/>
              </a:buClr>
              <a:buFont typeface="Hoefler Tex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6" marL="164520" indent="-164520" algn="ctr">
              <a:spcBef>
                <a:spcPts val="1199"/>
              </a:spcBef>
              <a:buClr>
                <a:srgbClr val="595650"/>
              </a:buClr>
              <a:buFont typeface="Hoefler Tex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87320" y="7188120"/>
            <a:ext cx="1143000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1f5b5a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787320" y="8445600"/>
            <a:ext cx="11430000" cy="77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4000"/>
          </a:bodyPr>
          <a:p>
            <a:pPr marL="47880" indent="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marL="47880" indent="-47880" algn="ctr">
              <a:spcBef>
                <a:spcPts val="1199"/>
              </a:spcBef>
              <a:buClr>
                <a:srgbClr val="4b4b4b"/>
              </a:buClr>
              <a:buFont typeface="Hoefler Tex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marL="47880" indent="-47880" algn="ctr">
              <a:spcBef>
                <a:spcPts val="1199"/>
              </a:spcBef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3" marL="47880" indent="-47880" algn="ctr">
              <a:spcBef>
                <a:spcPts val="1199"/>
              </a:spcBef>
              <a:buClr>
                <a:srgbClr val="4b4b4b"/>
              </a:buClr>
              <a:buFont typeface="Hoefler Tex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4" marL="47880" indent="-47880" algn="ctr">
              <a:spcBef>
                <a:spcPts val="1199"/>
              </a:spcBef>
              <a:buClr>
                <a:srgbClr val="4b4b4b"/>
              </a:buClr>
              <a:buFont typeface="Hoefler Tex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5" marL="47880" indent="-47880" algn="ctr">
              <a:spcBef>
                <a:spcPts val="1199"/>
              </a:spcBef>
              <a:buClr>
                <a:srgbClr val="595650"/>
              </a:buClr>
              <a:buFont typeface="Hoefler Tex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6" marL="47880" indent="-47880" algn="ctr">
              <a:spcBef>
                <a:spcPts val="1199"/>
              </a:spcBef>
              <a:buClr>
                <a:srgbClr val="595650"/>
              </a:buClr>
              <a:buFont typeface="Hoefler Tex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946920" y="2768400"/>
            <a:ext cx="52704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8000"/>
          </a:bodyPr>
          <a:p>
            <a:pPr marL="388440" indent="-38844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marL="656280" indent="-38844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marL="958320" indent="-38844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3" marL="1260720" indent="-38844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4" marL="1562760" indent="-38844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5" marL="1562760" indent="-38844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6" marL="1562760" indent="-38844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787320" y="1257480"/>
            <a:ext cx="11430000" cy="723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spcBef>
                <a:spcPts val="42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marL="965160" indent="-571320">
              <a:spcBef>
                <a:spcPts val="42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marL="1409760" indent="-571680">
              <a:spcBef>
                <a:spcPts val="42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3" marL="1854360" indent="-571680">
              <a:spcBef>
                <a:spcPts val="42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4" marL="2298600" indent="-571320">
              <a:spcBef>
                <a:spcPts val="42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5" marL="2298600" indent="-571320">
              <a:spcBef>
                <a:spcPts val="42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6" marL="2298600" indent="-571320">
              <a:spcBef>
                <a:spcPts val="42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eachertube.com/view_video.php?viewkey=8e6ffede7cf8b4825fe3" TargetMode="External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87320" y="1510920"/>
            <a:ext cx="1143000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1f5b5a"/>
                </a:solidFill>
                <a:latin typeface="Baskerville"/>
              </a:rPr>
              <a:t>Persuasive Appeals</a:t>
            </a:r>
            <a:br>
              <a:rPr sz="7800"/>
            </a:b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787320" y="5308200"/>
            <a:ext cx="11430000" cy="189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b4b4b"/>
                </a:solidFill>
                <a:latin typeface="Hoefler Text"/>
              </a:rPr>
              <a:t>Introducing the concepts of Ethos, Logos &amp; Pathos</a:t>
            </a:r>
            <a:endParaRPr b="0" lang="en-US" sz="5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Appeal to Ethics (Ethos)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787320" y="2565000"/>
            <a:ext cx="11430000" cy="6553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marL="542880" indent="-542880">
              <a:spcBef>
                <a:spcPts val="2801"/>
              </a:spcBef>
              <a:buSzPct val="12755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Ethics (ethos) means convincing by the character of the author. We tend to believe people whom we respect (or that show respect to us)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542880" indent="-542880">
              <a:spcBef>
                <a:spcPts val="2801"/>
              </a:spcBef>
              <a:buSzPct val="12755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Appeals to ethics is used to convince readers that the author is being fair and honest and well informed so that readers will trust values and intentions.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marL="964800" indent="-542520">
              <a:spcBef>
                <a:spcPts val="2801"/>
              </a:spcBef>
              <a:buSzPct val="12755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Ethical appeals avoid the use of negatively charged/loaded words.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1" descr=""/>
          <p:cNvPicPr/>
          <p:nvPr/>
        </p:nvPicPr>
        <p:blipFill>
          <a:blip r:embed="rId1"/>
          <a:stretch/>
        </p:blipFill>
        <p:spPr>
          <a:xfrm>
            <a:off x="558720" y="546120"/>
            <a:ext cx="11874600" cy="837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Picture 1" descr=""/>
          <p:cNvPicPr/>
          <p:nvPr/>
        </p:nvPicPr>
        <p:blipFill>
          <a:blip r:embed="rId1"/>
          <a:stretch/>
        </p:blipFill>
        <p:spPr>
          <a:xfrm>
            <a:off x="977760" y="533520"/>
            <a:ext cx="11290320" cy="868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Appeal to Emotions (Pathos)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497160" indent="-497160">
              <a:lnSpc>
                <a:spcPct val="90000"/>
              </a:lnSpc>
              <a:spcBef>
                <a:spcPts val="2801"/>
              </a:spcBef>
              <a:buSzPct val="12755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 </a:t>
            </a: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Appealing via pathos is persuading by appealing to the reader’s emotions. A carefully reasoned argument can be strengthened by an emotional appeal.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497160" indent="-497160">
              <a:lnSpc>
                <a:spcPct val="90000"/>
              </a:lnSpc>
              <a:spcBef>
                <a:spcPts val="2801"/>
              </a:spcBef>
              <a:buSzPct val="12755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Description or narration often from a persons own experience.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497160" indent="-497160">
              <a:lnSpc>
                <a:spcPct val="90000"/>
              </a:lnSpc>
              <a:spcBef>
                <a:spcPts val="2801"/>
              </a:spcBef>
              <a:buSzPct val="12755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The author’s point of view puts the reader in a certain frame of mind through the evidence itself, but also through carefully chosen words with positive or negative connotations that can sway readers’ emotions.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1" descr=""/>
          <p:cNvPicPr/>
          <p:nvPr/>
        </p:nvPicPr>
        <p:blipFill>
          <a:blip r:embed="rId1"/>
          <a:stretch/>
        </p:blipFill>
        <p:spPr>
          <a:xfrm>
            <a:off x="1079640" y="812880"/>
            <a:ext cx="10836000" cy="812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Go back to your quick write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spcBef>
                <a:spcPts val="2801"/>
              </a:spcBef>
              <a:buSzPct val="12755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What types of persuasive appeals did you use?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571680" indent="-571680">
              <a:spcBef>
                <a:spcPts val="2801"/>
              </a:spcBef>
              <a:buSzPct val="12755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Were they effective? Why?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571680" indent="-571680">
              <a:spcBef>
                <a:spcPts val="2801"/>
              </a:spcBef>
              <a:buSzPct val="12755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Is there a type of appeal you could have used, but didn’t?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For Next Time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spcBef>
                <a:spcPts val="2801"/>
              </a:spcBef>
              <a:buSzPct val="12755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Bring texts that your team believes will support the teaching of Ethos, Logos, Pathos.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Appeal? Define please...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531360" indent="-531360">
              <a:spcBef>
                <a:spcPts val="2801"/>
              </a:spcBef>
              <a:buSzPct val="12755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An earnest request for something important (an appeal for help)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531360" indent="-531360">
              <a:spcBef>
                <a:spcPts val="2801"/>
              </a:spcBef>
              <a:buSzPct val="12755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A formal request in court for a decision to be changed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531360" indent="-531360">
              <a:spcBef>
                <a:spcPts val="2801"/>
              </a:spcBef>
              <a:buSzPct val="12755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A quality that makes people like something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531360" indent="-531360">
              <a:spcBef>
                <a:spcPts val="2801"/>
              </a:spcBef>
              <a:buSzPct val="12755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b4b4b"/>
                </a:solidFill>
                <a:latin typeface="Hoefler Text"/>
              </a:rPr>
              <a:t>The power or ability to attract, interest, amuse, or stimulate the mind or emotions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Arguments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spcBef>
                <a:spcPts val="2801"/>
              </a:spcBef>
              <a:buSzPct val="12755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Authors purposefully do certain things to persuade us to believe what they are saying.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571680" indent="-571680">
              <a:spcBef>
                <a:spcPts val="2801"/>
              </a:spcBef>
              <a:buSzPct val="12755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They use all the tools at their disposal to attract our interest, amuse us, entertain us, and/or stimulate our minds or emotions.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Quite frankly...we do this all the time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spcBef>
                <a:spcPts val="2801"/>
              </a:spcBef>
              <a:buSzPct val="12755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In your journal, take a few moments to write about 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marL="1015920" indent="-571320">
              <a:spcBef>
                <a:spcPts val="2801"/>
              </a:spcBef>
              <a:buSzPct val="12755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b4b4b"/>
                </a:solidFill>
                <a:latin typeface="Hoefler Text"/>
              </a:rPr>
              <a:t>a time recently when you tried to persuade someone to do something 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marL="1460520" indent="-571680">
              <a:spcBef>
                <a:spcPts val="2801"/>
              </a:spcBef>
              <a:buSzPct val="12755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or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marL="1015920" indent="-571320">
              <a:spcBef>
                <a:spcPts val="2801"/>
              </a:spcBef>
              <a:buSzPct val="12755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b4b4b"/>
                </a:solidFill>
                <a:latin typeface="Hoefler Text"/>
              </a:rPr>
              <a:t>when someone tried to persuade you to do something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1"/>
          <p:cNvSpPr/>
          <p:nvPr/>
        </p:nvSpPr>
        <p:spPr>
          <a:xfrm>
            <a:off x="787320" y="4641840"/>
            <a:ext cx="1143000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Hoefler Text"/>
                <a:hlinkClick r:id="rId1"/>
              </a:rPr>
              <a:t>http://www.teachertube.com/v.php?viewkey=8e6ffede7cf8b4825fe3</a:t>
            </a:r>
            <a:endParaRPr b="0" lang="en-US" sz="3600" spc="-1" strike="noStrike">
              <a:solidFill>
                <a:srgbClr val="595650"/>
              </a:solidFill>
              <a:latin typeface="Hoefler Text"/>
            </a:endParaRPr>
          </a:p>
        </p:txBody>
      </p:sp>
      <p:sp>
        <p:nvSpPr>
          <p:cNvPr id="463" name="Rectangle 2"/>
          <p:cNvSpPr/>
          <p:nvPr/>
        </p:nvSpPr>
        <p:spPr>
          <a:xfrm>
            <a:off x="2158920" y="1739880"/>
            <a:ext cx="86742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95650"/>
                </a:solidFill>
                <a:latin typeface="Hoefler Text"/>
              </a:rPr>
              <a:t>Let’s take a closer look at appeals</a:t>
            </a:r>
            <a:endParaRPr b="0" lang="en-US" sz="3600" spc="-1" strike="noStrike">
              <a:solidFill>
                <a:srgbClr val="595650"/>
              </a:solidFill>
              <a:latin typeface="Hoefler Tex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Persuasive Appeals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spcBef>
                <a:spcPts val="2801"/>
              </a:spcBef>
              <a:buSzPct val="12755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Appeals to Reason (logos) are the proof, or apparent proof of the words themselves.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571680" indent="-571680">
              <a:spcBef>
                <a:spcPts val="2801"/>
              </a:spcBef>
              <a:buSzPct val="12755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Appeals to Emotion (pathos) - putting the audience into a certain frame of mind.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571680" indent="-571680">
              <a:spcBef>
                <a:spcPts val="2801"/>
              </a:spcBef>
              <a:buSzPct val="12755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Appeals to Ethics (ethos) - </a:t>
            </a:r>
            <a:r>
              <a:rPr b="0" lang="en-US" sz="3600" spc="-1" strike="noStrike">
                <a:solidFill>
                  <a:srgbClr val="4d4d4d"/>
                </a:solidFill>
                <a:latin typeface="Hoefler Text"/>
              </a:rPr>
              <a:t>The personal</a:t>
            </a: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 character of the speaker.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Appeal to Reason (Logos)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787320" y="2374560"/>
            <a:ext cx="11430000" cy="6489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8000"/>
          </a:bodyPr>
          <a:p>
            <a:pPr marL="560160" indent="-560160">
              <a:spcBef>
                <a:spcPts val="2801"/>
              </a:spcBef>
              <a:buSzPct val="12755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Reason (logos) - support of claims with concrete, specific data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560160" indent="-560160">
              <a:spcBef>
                <a:spcPts val="2801"/>
              </a:spcBef>
              <a:buSzPct val="12755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Appeals to Reason can be inductive or deductive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marL="995400" indent="-559800">
              <a:spcBef>
                <a:spcPts val="2801"/>
              </a:spcBef>
              <a:buSzPct val="12755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Inductive means starting with evidence which leads to a generalization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marL="995400" indent="-559800">
              <a:spcBef>
                <a:spcPts val="2801"/>
              </a:spcBef>
              <a:buSzPct val="12755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Deductive means starting with a general observations and moving to specifics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Appeal to Reason (Logos)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787320" y="2120400"/>
            <a:ext cx="11430000" cy="709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9000"/>
          </a:bodyPr>
          <a:p>
            <a:pPr lvl="1" marL="1005480" indent="-565560">
              <a:spcBef>
                <a:spcPts val="2801"/>
              </a:spcBef>
              <a:buSzPct val="127559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Typically supported by evidence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marL="1445760" indent="-565920">
              <a:spcBef>
                <a:spcPts val="2801"/>
              </a:spcBef>
              <a:buSzPct val="12755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acts - can be proven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marL="1445760" indent="-565920">
              <a:spcBef>
                <a:spcPts val="2801"/>
              </a:spcBef>
              <a:buSzPct val="12755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Expert opinion or quotations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marL="1445760" indent="-565920">
              <a:spcBef>
                <a:spcPts val="2801"/>
              </a:spcBef>
              <a:buSzPct val="12755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Definitions - statements of meaning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marL="1445760" indent="-565920">
              <a:spcBef>
                <a:spcPts val="2801"/>
              </a:spcBef>
              <a:buSzPct val="127559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tatistics - offer scientific support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marL="1445760" indent="-565920">
              <a:spcBef>
                <a:spcPts val="2801"/>
              </a:spcBef>
              <a:buSzPct val="127559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Examples - powerful illustrations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marL="1445760" indent="-565920">
              <a:spcBef>
                <a:spcPts val="2801"/>
              </a:spcBef>
              <a:buSzPct val="127559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Anecdotes - incidents based on personal experiences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" descr=""/>
          <p:cNvPicPr/>
          <p:nvPr/>
        </p:nvPicPr>
        <p:blipFill>
          <a:blip r:embed="rId1"/>
          <a:stretch/>
        </p:blipFill>
        <p:spPr>
          <a:xfrm>
            <a:off x="1219320" y="1092240"/>
            <a:ext cx="10566360" cy="7238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Nvasquez</cp:lastModifiedBy>
  <dcterms:modified xsi:type="dcterms:W3CDTF">2011-03-23T18:20:22Z</dcterms:modified>
  <cp:revision>1</cp:revision>
  <dc:subject/>
  <dc:title>Persuasive Appeals </dc:title>
</cp:coreProperties>
</file>